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2E72-CF2B-4076-AE84-A8F7BCF338C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01A5-B64D-455F-AE44-02C3B9CF2F0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A34C-E5F1-4BBA-8767-0AD67B8E84E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16E0-7D9A-40B8-9AAC-B03BF68A0AA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pelling is critical – particularly watch for mixups with o and 0; 1 and l; B and 8; _ and -; 9 &amp; g; b and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A801-A5B3-4BE6-AADD-5CAB9F6C4E4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ome messages are better conveyed personally.  (Or at least get a read rece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3C0-D7E8-4E5A-B6C7-894A298B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952-E589-4EFB-A092-91E6740F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1946-210A-40C8-B87A-DC7CA1FF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E84-D688-4D30-8D65-32C211A2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26D-E188-44E3-A4B4-B558D8EA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F1A-2642-4C94-A4AF-B801CCAE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358-06B6-441B-9044-142DEFD8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468-E2B3-4F7D-9A7E-A3235467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65F-898E-4532-A383-D54A733F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9FB-E548-4B6F-91BE-E1695F6F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80B-970E-47A5-8800-4FB619B2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9BB-D7E1-4412-840F-73C3A00B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B61E-896C-463A-A121-3B7427CAD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To Em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1371600" cy="1197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539640" y="4653000"/>
            <a:ext cx="79185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rising Neighbourhood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 Savvy Sen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Notched Right Arrow 3"/>
          <p:cNvSpPr/>
          <p:nvPr/>
        </p:nvSpPr>
        <p:spPr>
          <a:xfrm rot="17505000">
            <a:off x="1391040" y="3328200"/>
            <a:ext cx="1349280" cy="541440"/>
          </a:xfrm>
          <a:custGeom>
            <a:avLst/>
            <a:gdLst>
              <a:gd name="textAreaLeft" fmla="*/ 161280 w 1349280"/>
              <a:gd name="textAreaRight" fmla="*/ 1188000 w 1349280"/>
              <a:gd name="textAreaTop" fmla="*/ 135360 h 541440"/>
              <a:gd name="textAreaBottom" fmla="*/ 406080 h 541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29" y="5400"/>
                </a:lnTo>
                <a:lnTo>
                  <a:pt x="16429" y="0"/>
                </a:lnTo>
                <a:lnTo>
                  <a:pt x="21600" y="10800"/>
                </a:lnTo>
                <a:lnTo>
                  <a:pt x="16429" y="21600"/>
                </a:lnTo>
                <a:lnTo>
                  <a:pt x="16429" y="16200"/>
                </a:lnTo>
                <a:lnTo>
                  <a:pt x="0" y="16200"/>
                </a:lnTo>
                <a:lnTo>
                  <a:pt x="258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Notched Right Arrow 12"/>
          <p:cNvSpPr/>
          <p:nvPr/>
        </p:nvSpPr>
        <p:spPr>
          <a:xfrm>
            <a:off x="3924360" y="1974960"/>
            <a:ext cx="1349280" cy="539640"/>
          </a:xfrm>
          <a:custGeom>
            <a:avLst/>
            <a:gdLst>
              <a:gd name="textAreaLeft" fmla="*/ 160920 w 1349280"/>
              <a:gd name="textAreaRight" fmla="*/ 1188360 w 1349280"/>
              <a:gd name="textAreaTop" fmla="*/ 135000 h 539640"/>
              <a:gd name="textAreaBottom" fmla="*/ 405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44" y="5400"/>
                </a:lnTo>
                <a:lnTo>
                  <a:pt x="16444" y="0"/>
                </a:lnTo>
                <a:lnTo>
                  <a:pt x="21600" y="10800"/>
                </a:lnTo>
                <a:lnTo>
                  <a:pt x="16444" y="21600"/>
                </a:lnTo>
                <a:lnTo>
                  <a:pt x="16444" y="16200"/>
                </a:lnTo>
                <a:lnTo>
                  <a:pt x="0" y="16200"/>
                </a:lnTo>
                <a:lnTo>
                  <a:pt x="257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Notched Right Arrow 13"/>
          <p:cNvSpPr/>
          <p:nvPr/>
        </p:nvSpPr>
        <p:spPr>
          <a:xfrm rot="6852000">
            <a:off x="5629680" y="3425040"/>
            <a:ext cx="1347840" cy="540000"/>
          </a:xfrm>
          <a:custGeom>
            <a:avLst/>
            <a:gdLst>
              <a:gd name="textAreaLeft" fmla="*/ 160920 w 1347840"/>
              <a:gd name="textAreaRight" fmla="*/ 1186920 w 1347840"/>
              <a:gd name="textAreaTop" fmla="*/ 135000 h 540000"/>
              <a:gd name="textAreaBottom" fmla="*/ 405000 h 5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38" y="5400"/>
                </a:lnTo>
                <a:lnTo>
                  <a:pt x="16438" y="0"/>
                </a:lnTo>
                <a:lnTo>
                  <a:pt x="21600" y="10800"/>
                </a:lnTo>
                <a:lnTo>
                  <a:pt x="16438" y="21600"/>
                </a:lnTo>
                <a:lnTo>
                  <a:pt x="16438" y="16200"/>
                </a:lnTo>
                <a:lnTo>
                  <a:pt x="0" y="16200"/>
                </a:lnTo>
                <a:lnTo>
                  <a:pt x="258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1066680" y="4622760"/>
            <a:ext cx="998640" cy="479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779400" y="5199120"/>
            <a:ext cx="1609920" cy="455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8" descr="MCj04247920000[1]"/>
          <p:cNvPicPr/>
          <p:nvPr/>
        </p:nvPicPr>
        <p:blipFill>
          <a:blip r:embed="rId3"/>
          <a:stretch/>
        </p:blipFill>
        <p:spPr>
          <a:xfrm>
            <a:off x="2171880" y="1617840"/>
            <a:ext cx="102996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8" descr="MCj04247920000[1]"/>
          <p:cNvPicPr/>
          <p:nvPr/>
        </p:nvPicPr>
        <p:blipFill>
          <a:blip r:embed="rId4"/>
          <a:stretch/>
        </p:blipFill>
        <p:spPr>
          <a:xfrm>
            <a:off x="6311880" y="1617840"/>
            <a:ext cx="1030320" cy="1123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57"/>
          <p:cNvSpPr/>
          <p:nvPr/>
        </p:nvSpPr>
        <p:spPr>
          <a:xfrm>
            <a:off x="5050800" y="4599000"/>
            <a:ext cx="1335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il Box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7"/>
          <p:cNvSpPr/>
          <p:nvPr/>
        </p:nvSpPr>
        <p:spPr>
          <a:xfrm>
            <a:off x="1987560" y="70344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en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i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7"/>
          <p:cNvSpPr/>
          <p:nvPr/>
        </p:nvSpPr>
        <p:spPr>
          <a:xfrm>
            <a:off x="5868360" y="70344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cei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i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Notched Right Arrow 3"/>
          <p:cNvSpPr/>
          <p:nvPr/>
        </p:nvSpPr>
        <p:spPr>
          <a:xfrm rot="17505000">
            <a:off x="1391040" y="3328200"/>
            <a:ext cx="1349280" cy="541440"/>
          </a:xfrm>
          <a:custGeom>
            <a:avLst/>
            <a:gdLst>
              <a:gd name="textAreaLeft" fmla="*/ 161280 w 1349280"/>
              <a:gd name="textAreaRight" fmla="*/ 1188000 w 1349280"/>
              <a:gd name="textAreaTop" fmla="*/ 135360 h 541440"/>
              <a:gd name="textAreaBottom" fmla="*/ 406080 h 541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29" y="5400"/>
                </a:lnTo>
                <a:lnTo>
                  <a:pt x="16429" y="0"/>
                </a:lnTo>
                <a:lnTo>
                  <a:pt x="21600" y="10800"/>
                </a:lnTo>
                <a:lnTo>
                  <a:pt x="16429" y="21600"/>
                </a:lnTo>
                <a:lnTo>
                  <a:pt x="16429" y="16200"/>
                </a:lnTo>
                <a:lnTo>
                  <a:pt x="0" y="16200"/>
                </a:lnTo>
                <a:lnTo>
                  <a:pt x="258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Notched Right Arrow 12"/>
          <p:cNvSpPr/>
          <p:nvPr/>
        </p:nvSpPr>
        <p:spPr>
          <a:xfrm>
            <a:off x="3924360" y="1974960"/>
            <a:ext cx="1349280" cy="539640"/>
          </a:xfrm>
          <a:custGeom>
            <a:avLst/>
            <a:gdLst>
              <a:gd name="textAreaLeft" fmla="*/ 160920 w 1349280"/>
              <a:gd name="textAreaRight" fmla="*/ 1188360 w 1349280"/>
              <a:gd name="textAreaTop" fmla="*/ 135000 h 539640"/>
              <a:gd name="textAreaBottom" fmla="*/ 405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44" y="5400"/>
                </a:lnTo>
                <a:lnTo>
                  <a:pt x="16444" y="0"/>
                </a:lnTo>
                <a:lnTo>
                  <a:pt x="21600" y="10800"/>
                </a:lnTo>
                <a:lnTo>
                  <a:pt x="16444" y="21600"/>
                </a:lnTo>
                <a:lnTo>
                  <a:pt x="16444" y="16200"/>
                </a:lnTo>
                <a:lnTo>
                  <a:pt x="0" y="16200"/>
                </a:lnTo>
                <a:lnTo>
                  <a:pt x="257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Notched Right Arrow 13"/>
          <p:cNvSpPr/>
          <p:nvPr/>
        </p:nvSpPr>
        <p:spPr>
          <a:xfrm rot="6852000">
            <a:off x="5629680" y="3425040"/>
            <a:ext cx="1347840" cy="540000"/>
          </a:xfrm>
          <a:custGeom>
            <a:avLst/>
            <a:gdLst>
              <a:gd name="textAreaLeft" fmla="*/ 160920 w 1347840"/>
              <a:gd name="textAreaRight" fmla="*/ 1186920 w 1347840"/>
              <a:gd name="textAreaTop" fmla="*/ 135000 h 540000"/>
              <a:gd name="textAreaBottom" fmla="*/ 405000 h 5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38" y="5400"/>
                </a:lnTo>
                <a:lnTo>
                  <a:pt x="16438" y="0"/>
                </a:lnTo>
                <a:lnTo>
                  <a:pt x="21600" y="10800"/>
                </a:lnTo>
                <a:lnTo>
                  <a:pt x="16438" y="21600"/>
                </a:lnTo>
                <a:lnTo>
                  <a:pt x="16438" y="16200"/>
                </a:lnTo>
                <a:lnTo>
                  <a:pt x="0" y="16200"/>
                </a:lnTo>
                <a:lnTo>
                  <a:pt x="258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"/>
          <p:cNvPicPr/>
          <p:nvPr/>
        </p:nvPicPr>
        <p:blipFill>
          <a:blip r:embed="rId1"/>
          <a:stretch/>
        </p:blipFill>
        <p:spPr>
          <a:xfrm>
            <a:off x="1066680" y="4622760"/>
            <a:ext cx="998640" cy="47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"/>
          <p:cNvPicPr/>
          <p:nvPr/>
        </p:nvPicPr>
        <p:blipFill>
          <a:blip r:embed="rId2"/>
          <a:stretch/>
        </p:blipFill>
        <p:spPr>
          <a:xfrm>
            <a:off x="779400" y="5199120"/>
            <a:ext cx="1609920" cy="455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8" descr="MCj04247920000[1]"/>
          <p:cNvPicPr/>
          <p:nvPr/>
        </p:nvPicPr>
        <p:blipFill>
          <a:blip r:embed="rId3"/>
          <a:stretch/>
        </p:blipFill>
        <p:spPr>
          <a:xfrm>
            <a:off x="2171880" y="1617840"/>
            <a:ext cx="1029960" cy="1123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8" descr="MCj04247920000[1]"/>
          <p:cNvPicPr/>
          <p:nvPr/>
        </p:nvPicPr>
        <p:blipFill>
          <a:blip r:embed="rId4"/>
          <a:stretch/>
        </p:blipFill>
        <p:spPr>
          <a:xfrm>
            <a:off x="6311880" y="1617840"/>
            <a:ext cx="1030320" cy="1123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7"/>
          <p:cNvSpPr/>
          <p:nvPr/>
        </p:nvSpPr>
        <p:spPr>
          <a:xfrm>
            <a:off x="5050800" y="4599000"/>
            <a:ext cx="1335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il Box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7"/>
          <p:cNvSpPr/>
          <p:nvPr/>
        </p:nvSpPr>
        <p:spPr>
          <a:xfrm>
            <a:off x="7350840" y="4325760"/>
            <a:ext cx="1121040" cy="368280"/>
          </a:xfrm>
          <a:prstGeom prst="rect">
            <a:avLst/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eb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7"/>
          <p:cNvSpPr/>
          <p:nvPr/>
        </p:nvSpPr>
        <p:spPr>
          <a:xfrm>
            <a:off x="7346880" y="5470560"/>
            <a:ext cx="1239840" cy="91692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lient emai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Notched Right Arrow 22"/>
          <p:cNvSpPr/>
          <p:nvPr/>
        </p:nvSpPr>
        <p:spPr>
          <a:xfrm rot="20340600">
            <a:off x="6463800" y="4592160"/>
            <a:ext cx="836640" cy="540000"/>
          </a:xfrm>
          <a:custGeom>
            <a:avLst/>
            <a:gdLst>
              <a:gd name="textAreaLeft" fmla="*/ 160920 w 836640"/>
              <a:gd name="textAreaRight" fmla="*/ 675720 w 836640"/>
              <a:gd name="textAreaTop" fmla="*/ 135000 h 540000"/>
              <a:gd name="textAreaBottom" fmla="*/ 405000 h 5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284" y="5400"/>
                </a:lnTo>
                <a:lnTo>
                  <a:pt x="13284" y="0"/>
                </a:lnTo>
                <a:lnTo>
                  <a:pt x="21600" y="10800"/>
                </a:lnTo>
                <a:lnTo>
                  <a:pt x="13284" y="21600"/>
                </a:lnTo>
                <a:lnTo>
                  <a:pt x="13284" y="16200"/>
                </a:lnTo>
                <a:lnTo>
                  <a:pt x="0" y="16200"/>
                </a:lnTo>
                <a:lnTo>
                  <a:pt x="415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Notched Right Arrow 23"/>
          <p:cNvSpPr/>
          <p:nvPr/>
        </p:nvSpPr>
        <p:spPr>
          <a:xfrm rot="1696200">
            <a:off x="6454440" y="5405040"/>
            <a:ext cx="836640" cy="539640"/>
          </a:xfrm>
          <a:custGeom>
            <a:avLst/>
            <a:gdLst>
              <a:gd name="textAreaLeft" fmla="*/ 160920 w 836640"/>
              <a:gd name="textAreaRight" fmla="*/ 675720 w 836640"/>
              <a:gd name="textAreaTop" fmla="*/ 135000 h 539640"/>
              <a:gd name="textAreaBottom" fmla="*/ 405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284" y="5400"/>
                </a:lnTo>
                <a:lnTo>
                  <a:pt x="13284" y="0"/>
                </a:lnTo>
                <a:lnTo>
                  <a:pt x="21600" y="10800"/>
                </a:lnTo>
                <a:lnTo>
                  <a:pt x="13284" y="21600"/>
                </a:lnTo>
                <a:lnTo>
                  <a:pt x="13284" y="16200"/>
                </a:lnTo>
                <a:lnTo>
                  <a:pt x="0" y="16200"/>
                </a:lnTo>
                <a:lnTo>
                  <a:pt x="415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c9cdf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7"/>
          <p:cNvSpPr/>
          <p:nvPr/>
        </p:nvSpPr>
        <p:spPr>
          <a:xfrm>
            <a:off x="1987560" y="70344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en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i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7"/>
          <p:cNvSpPr/>
          <p:nvPr/>
        </p:nvSpPr>
        <p:spPr>
          <a:xfrm>
            <a:off x="5868360" y="70344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cei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i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765000"/>
          <a:ext cx="8351640" cy="5585040"/>
        </p:xfrm>
        <a:graphic>
          <a:graphicData uri="http://schemas.openxmlformats.org/drawingml/2006/table">
            <a:tbl>
              <a:tblPr/>
              <a:tblGrid>
                <a:gridCol w="4103640"/>
                <a:gridCol w="4248000"/>
              </a:tblGrid>
              <a:tr h="5585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Webm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SP’s h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 free ones – eg Gmail, Hotmail, Live mail, Yahoo 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 via Internet Brow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s stay at the 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s are stored on 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antivirus, anti sp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back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 from any internet de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: Buckets of storage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MUST be online to use </a:t>
                      </a: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mail does have offline facilit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ient Email Progra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 on your comp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utlook,</a:t>
                      </a: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look Express, Windows Mail, Thunderbird, Incredi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s connection set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work on off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Emails are stored on ONE 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Contacts stored on your 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You have to manage spam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You manage back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ccess from ONE 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539640" y="836640"/>
            <a:ext cx="2448000" cy="719280"/>
          </a:xfrm>
          <a:prstGeom prst="wedgeRectCallout">
            <a:avLst>
              <a:gd name="adj1" fmla="val 29791"/>
              <a:gd name="adj2" fmla="val 110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il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268360" y="1989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27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company.com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3"/>
          <p:cNvSpPr/>
          <p:nvPr/>
        </p:nvSpPr>
        <p:spPr>
          <a:xfrm>
            <a:off x="3132000" y="836640"/>
            <a:ext cx="792360" cy="719280"/>
          </a:xfrm>
          <a:prstGeom prst="wedgeRectCallout">
            <a:avLst>
              <a:gd name="adj1" fmla="val 8115"/>
              <a:gd name="adj2" fmla="val 11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4"/>
          <p:cNvSpPr/>
          <p:nvPr/>
        </p:nvSpPr>
        <p:spPr>
          <a:xfrm>
            <a:off x="4067280" y="836640"/>
            <a:ext cx="4249800" cy="719280"/>
          </a:xfrm>
          <a:prstGeom prst="wedgeRectCallout">
            <a:avLst>
              <a:gd name="adj1" fmla="val -31171"/>
              <a:gd name="adj2" fmla="val 123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P or web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826920" y="278136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address always contains ‘@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ny spaces. Never a full stop at the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unique. NOT case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spelling is vital (0/O; 1/I; B/8; _/-; 9/g; b/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1 or more email address free with your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multiple email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To, CC, BCC 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TO: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Main person(s) to act on, be in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CC: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rbon Copy – who else should know about. They are not required to act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BCC: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Blind Carbon Co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 and CC recipients don’t know about BCC recip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CC recipient sees TO and CC recip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body sees the BCC recip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reat for forwarding joke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Didn't you get my email"/>
          <p:cNvPicPr/>
          <p:nvPr/>
        </p:nvPicPr>
        <p:blipFill>
          <a:blip r:embed="rId1"/>
          <a:stretch/>
        </p:blipFill>
        <p:spPr>
          <a:xfrm>
            <a:off x="1476360" y="189000"/>
            <a:ext cx="62992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8:38:08Z</dcterms:created>
  <dc:creator>KH</dc:creator>
  <dc:description/>
  <dc:language>en-US</dc:language>
  <cp:lastModifiedBy>Keith</cp:lastModifiedBy>
  <dcterms:modified xsi:type="dcterms:W3CDTF">2014-01-28T02:23:50Z</dcterms:modified>
  <cp:revision>106</cp:revision>
  <dc:subject/>
  <dc:title>Intro to the Course</dc:title>
</cp:coreProperties>
</file>